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camera.wav" ContentType="audio/x-wav"/>
  <Override PartName="/ppt/media/driveby.wav" ContentType="audio/x-wav"/>
  <Override PartName="/ppt/media/laser.wav" ContentType="audio/x-wav"/>
  <Override PartName="/ppt/media/cashreg.wav" ContentType="audio/x-wav"/>
  <Override PartName="/ppt/media/gunshot.wav" ContentType="audio/x-wav"/>
  <Override PartName="/ppt/media/chimes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59E-A95E-4FD4-815E-3BC2C488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A7C-C19C-43DF-9C6C-D51BC08E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05E-A36A-41BE-8339-574880AD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6AB-B536-464F-A2AC-1BA97D72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61A-9BAF-4953-AD86-336C9422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493-107A-4CB5-AB20-F1D33A8F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110-4AF1-4329-A77A-3EBE80A8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8B5-9FFF-4FFC-AA95-8AB9E337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2A0-6C24-448E-806B-2EBEF0B7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968-F4BB-4DA9-9DF5-653176C9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FF0-F070-48BB-B96A-A6455F4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33A-D202-4ABA-B68C-45E55931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5198-B628-4F1E-9C9A-F9DA1D4C2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himes.wav"/><Relationship Id="rId11" Type="http://schemas.openxmlformats.org/officeDocument/2006/relationships/audio" Target="../media/carbrake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driveby.wav"/><Relationship Id="rId15" Type="http://schemas.openxmlformats.org/officeDocument/2006/relationships/audio" Target="../media/carbrake.wav"/><Relationship Id="rId16" Type="http://schemas.openxmlformats.org/officeDocument/2006/relationships/audio" Target="../media/driveby.wav"/><Relationship Id="rId17" Type="http://schemas.openxmlformats.org/officeDocument/2006/relationships/audio" Target="../media/carbrake.wav"/><Relationship Id="rId18" Type="http://schemas.openxmlformats.org/officeDocument/2006/relationships/audio" Target="../media/driveby.wav"/><Relationship Id="rId19" Type="http://schemas.openxmlformats.org/officeDocument/2006/relationships/audio" Target="../media/carbrake.wav"/><Relationship Id="rId20" Type="http://schemas.openxmlformats.org/officeDocument/2006/relationships/audio" Target="../media/driveby.wav"/><Relationship Id="rId21" Type="http://schemas.openxmlformats.org/officeDocument/2006/relationships/audio" Target="../media/carbrake.wav"/><Relationship Id="rId22" Type="http://schemas.openxmlformats.org/officeDocument/2006/relationships/audio" Target="../media/camera.wav"/><Relationship Id="rId23" Type="http://schemas.openxmlformats.org/officeDocument/2006/relationships/audio" Target="../media/driveby.wav"/><Relationship Id="rId24" Type="http://schemas.openxmlformats.org/officeDocument/2006/relationships/audio" Target="../media/carbrake.wav"/><Relationship Id="rId25" Type="http://schemas.openxmlformats.org/officeDocument/2006/relationships/audio" Target="../media/camera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driveby.wav"/><Relationship Id="rId5" Type="http://schemas.openxmlformats.org/officeDocument/2006/relationships/audio" Target="../media/gunshot.wav"/><Relationship Id="rId6" Type="http://schemas.openxmlformats.org/officeDocument/2006/relationships/audio" Target="../media/driveby.wav"/><Relationship Id="rId7" Type="http://schemas.openxmlformats.org/officeDocument/2006/relationships/audio" Target="../media/gunshot.wav"/><Relationship Id="rId8" Type="http://schemas.openxmlformats.org/officeDocument/2006/relationships/audio" Target="../media/driveby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driveby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driveby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driveby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cashreg.wav"/><Relationship Id="rId27" Type="http://schemas.openxmlformats.org/officeDocument/2006/relationships/audio" Target="../media/driveby.wav"/><Relationship Id="rId28" Type="http://schemas.openxmlformats.org/officeDocument/2006/relationships/audio" Target="../media/driveby.wav"/><Relationship Id="rId29" Type="http://schemas.openxmlformats.org/officeDocument/2006/relationships/audio" Target="../media/driveby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cashreg.wav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projctor.wav"/><Relationship Id="rId15" Type="http://schemas.openxmlformats.org/officeDocument/2006/relationships/audio" Target="../media/gunshot.wav"/><Relationship Id="rId16" Type="http://schemas.openxmlformats.org/officeDocument/2006/relationships/audio" Target="../media/projctor.wav"/><Relationship Id="rId17" Type="http://schemas.openxmlformats.org/officeDocument/2006/relationships/audio" Target="../media/gunshot.wav"/><Relationship Id="rId18" Type="http://schemas.openxmlformats.org/officeDocument/2006/relationships/audio" Target="../media/projctor.wav"/><Relationship Id="rId19" Type="http://schemas.openxmlformats.org/officeDocument/2006/relationships/audio" Target="../media/gunshot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zing Data Using Box-and-Whisker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828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        20         30        40         50         60       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5334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leas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" y="1295280"/>
            <a:ext cx="8077320" cy="642600"/>
            <a:chOff x="457200" y="1295280"/>
            <a:chExt cx="8077320" cy="642600"/>
          </a:xfrm>
        </p:grpSpPr>
        <p:sp>
          <p:nvSpPr>
            <p:cNvPr id="47" name=""/>
            <p:cNvSpPr/>
            <p:nvPr/>
          </p:nvSpPr>
          <p:spPr>
            <a:xfrm>
              <a:off x="457200" y="1600200"/>
              <a:ext cx="8077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1295280"/>
              <a:ext cx="739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l        l        l        l        l        l        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13372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438280"/>
            <a:ext cx="2286000" cy="7621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438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285640" y="2819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867280" y="28195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3"/>
            <a:endCxn id="45" idx="0"/>
          </p:cNvCxnSpPr>
          <p:nvPr/>
        </p:nvCxnSpPr>
        <p:spPr>
          <a:xfrm flipH="1">
            <a:off x="2019240" y="2873160"/>
            <a:ext cx="137160" cy="708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324480" y="35812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greates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endCxn id="59" idx="0"/>
          </p:cNvCxnSpPr>
          <p:nvPr/>
        </p:nvCxnSpPr>
        <p:spPr>
          <a:xfrm flipH="1">
            <a:off x="7619760" y="2873520"/>
            <a:ext cx="136800" cy="708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0"/>
            <a:endCxn id="44" idx="0"/>
          </p:cNvCxnSpPr>
          <p:nvPr/>
        </p:nvCxnSpPr>
        <p:spPr>
          <a:xfrm>
            <a:off x="4267080" y="3199680"/>
            <a:ext cx="228960" cy="2134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600200" y="51814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wer Quart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1814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per Quart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0" idx="3"/>
            <a:endCxn id="62" idx="0"/>
          </p:cNvCxnSpPr>
          <p:nvPr/>
        </p:nvCxnSpPr>
        <p:spPr>
          <a:xfrm flipH="1">
            <a:off x="2476440" y="2873160"/>
            <a:ext cx="975240" cy="2308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0"/>
            <a:endCxn id="63" idx="0"/>
          </p:cNvCxnSpPr>
          <p:nvPr/>
        </p:nvCxnSpPr>
        <p:spPr>
          <a:xfrm>
            <a:off x="5867280" y="2819520"/>
            <a:ext cx="724320" cy="2362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6278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median of lower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6278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median of upper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027320" y="486396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0"/>
                </a:moveTo>
                <a:lnTo>
                  <a:pt x="0" y="4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4876920"/>
            <a:ext cx="335304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zing Data Using Box-and-Whisker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Draw a box-and-whisker plot of the order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971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V           LQ           M           UQ           G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76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      7      9      12      14      22      24     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914400" y="21337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620120" y="21337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038480" y="2133720"/>
            <a:ext cx="1526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209320" y="2133360"/>
            <a:ext cx="38124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943600" y="21337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76520"/>
            <a:ext cx="533520" cy="6094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1676520"/>
            <a:ext cx="685800" cy="6094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676520"/>
            <a:ext cx="685800" cy="6094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1676520"/>
            <a:ext cx="533160" cy="6094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1676520"/>
            <a:ext cx="685800" cy="6094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3657600"/>
            <a:ext cx="8077320" cy="642600"/>
            <a:chOff x="457200" y="3657600"/>
            <a:chExt cx="8077320" cy="642600"/>
          </a:xfrm>
        </p:grpSpPr>
        <p:sp>
          <p:nvSpPr>
            <p:cNvPr id="89" name=""/>
            <p:cNvSpPr/>
            <p:nvPr/>
          </p:nvSpPr>
          <p:spPr>
            <a:xfrm>
              <a:off x="457200" y="3962520"/>
              <a:ext cx="8077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3657600"/>
              <a:ext cx="739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l        l        l        l        l        l        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762120" y="4191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     5         10         15         20        25        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181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5181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181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105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5105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0040" y="5291280"/>
            <a:ext cx="1324080" cy="1440"/>
          </a:xfrm>
          <a:custGeom>
            <a:avLst/>
            <a:gdLst/>
            <a:ahLst/>
            <a:rect l="l" t="t" r="r" b="b"/>
            <a:pathLst>
              <a:path w="834" h="1">
                <a:moveTo>
                  <a:pt x="83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3040" y="523404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09680"/>
            <a:ext cx="31240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209680"/>
            <a:ext cx="31240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91280" y="3414600"/>
            <a:ext cx="1440" cy="700200"/>
          </a:xfrm>
          <a:custGeom>
            <a:avLst/>
            <a:gdLst/>
            <a:ahLst/>
            <a:rect l="l" t="t" r="r" b="b"/>
            <a:pathLst>
              <a:path w="1" h="441">
                <a:moveTo>
                  <a:pt x="0" y="0"/>
                </a:moveTo>
                <a:lnTo>
                  <a:pt x="0" y="4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3429000"/>
            <a:ext cx="34290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preting a Box-and-Whisker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1430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The box-and-whisker plot below shows the number (in millions) of personal computers in the United States from 1985 to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2438280"/>
            <a:ext cx="8686440" cy="642600"/>
            <a:chOff x="228600" y="2438280"/>
            <a:chExt cx="8686440" cy="642600"/>
          </a:xfrm>
        </p:grpSpPr>
        <p:sp>
          <p:nvSpPr>
            <p:cNvPr id="107" name=""/>
            <p:cNvSpPr/>
            <p:nvPr/>
          </p:nvSpPr>
          <p:spPr>
            <a:xfrm>
              <a:off x="228600" y="2743200"/>
              <a:ext cx="8686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0000" y="2438280"/>
              <a:ext cx="79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l       l       l       l       l       l       l       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33520" y="2895480"/>
            <a:ext cx="79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      30       40       50        60       70       80       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809880"/>
            <a:ext cx="2133360" cy="76320"/>
          </a:xfrm>
          <a:custGeom>
            <a:avLst/>
            <a:gdLst/>
            <a:ahLst/>
            <a:rect l="l" t="t" r="r" b="b"/>
            <a:pathLst>
              <a:path w="834" h="1">
                <a:moveTo>
                  <a:pt x="83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3809880"/>
            <a:ext cx="1524240" cy="7776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1148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is the median number of personal computers in the United States from 1985 to 199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495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2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9528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What is the least number of personal computers in the United States from 1985 to 199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5334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9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897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What is the greatest number of personal computers in the United States from 1985 to 199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62784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2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70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20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700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2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7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2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700"/>
                            </p:stCondLst>
                            <p:childTnLst>
                              <p:par>
                                <p:cTn id="3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2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5-11-14T13:40:08Z</dcterms:modified>
  <cp:revision>96</cp:revision>
  <dc:subject/>
  <dc:title>PowerPoint Presentation</dc:title>
</cp:coreProperties>
</file>